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71C3-0A3D-4CAA-B6B1-04810F2B4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29DC-392A-438C-9BE5-8E59D6264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6583-CB7D-4AF7-BD90-6137738E7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DB52-D7A4-4CF8-B337-306876858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8EF5D-3BD0-4754-B0C9-A778A49E0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CCF34-A5B6-4AD4-8C74-02774772C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47A03-703C-4008-8921-8BEC1F1D3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A6CD6-F95E-4391-BF1F-4B7B054D8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9D82A-620D-4CF6-B46C-27C47D47C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7C48A-8113-4C28-B1B9-7D67DDBCA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218A7-3AD1-4E5C-B49B-46BFD4D4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2A5E-890B-4DCB-9207-227048321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8E670-7529-4BE8-8724-D5FF0C16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C6D7C-1054-43FF-9780-1F8B68A6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BF528-6430-4F0F-AFAB-D9F7027C2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C77E6-C1AF-4D32-B40D-FD55EE9A9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AA053-B730-4930-81BA-9236D59EC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53C13-1D4C-473B-9FFC-521B94432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677B2-EF62-4B2C-82D5-F8336A65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35D5D-3119-450A-9E2A-1B05C619C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7B432-D95E-44F7-97E8-28997A7A5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D918A-FA1D-4FFC-92E5-F555F9BE6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3E4B-BED3-43C3-BBD5-8AFE60865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3AAE8-AC02-44B9-B750-619089C6D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0E079-5B48-4D20-B20E-9D1229AE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94E5C-8DBE-43A2-B3B4-6D2375A3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82DB3-C97A-429A-B0A5-E37B020E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5D711-BDF0-4838-8ED5-616756158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27637-8864-43CE-AE14-385EA3E60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CD4F5-ECBC-4F78-AB56-43EEA9E2B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6B894-1538-41DC-B961-AA8F5025C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2EADD-2D04-4189-9DBD-6B193704F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1E5AC-B554-445E-9AAB-8D3840821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0F9C-EE80-44A0-83C4-85155D686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E5A4F-6ED9-4EA3-8471-4B1BD1462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7E393-1B72-495A-B402-98EB0A561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620D7-A5B0-4E0E-83EC-0F2FBBA02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CA9AE-FE38-4A97-8452-D3C1174D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EB030-B0F2-4252-8BCE-DB0C1E47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04075-27A3-4678-BE67-B87DE46B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9B183-CA9F-42AE-AF8C-7AD1E148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C5D8A-0C02-4438-A456-4EFA114BC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C87B9-6C42-4D29-984F-B27EB17EF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0B644-23DF-4603-8750-7627D95E0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4BE3-6BF5-4354-9BF4-EF24CD0C7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F213B-6362-46FE-8CC1-B4204D9EB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FB915-C5DA-4278-9025-89F9F4B48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5DEC7-6B5E-4AD1-A5D7-CB7F321C5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40ACD-EEA0-4418-87C4-B88C48ACD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7B869-C4FC-47B7-9222-7BBD5B78C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E6870-AF0A-4A88-ACCA-B58D11D5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469E6-327F-45E5-9E93-3F762C46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02981-1DBF-44B4-AF0A-295F618B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E05EF-BCB9-4B34-83B4-572792F93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DA972-825F-44DB-B9C7-194CD91A0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CB6A-4535-4A4F-B6AB-16C0859DA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906AB-ABFA-40F0-98F2-C50704957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9254A-52E9-4D4C-AA36-62913841A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E335F-EE09-44A0-BE4C-EB35031CD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20C09-2D56-495B-A732-502E9E4C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3BBE7-65A6-441A-BF04-DDB14F523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59B72-BE52-435F-805C-A2FCCC99A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9886D-0AAC-4A05-AC5C-C27101183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8FA0D-C019-4746-9C97-91E390AC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00CFB3-46B3-4B8B-8760-B075AD51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DD8AF-2E6A-443D-96F5-19ACFDDE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1AE4-1386-42D7-BA26-2E389C44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7E816-A33B-492B-AAD1-3B6F8FF96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CBBEE-2696-4675-9FA1-A48E6C8EB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966A9-03BD-4B8C-8047-F6B325DFF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68262-252F-4E76-9A92-488520E75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3D135-921F-47FC-A734-448C059CD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09FFF-59C9-4848-9D46-CD6DFA33B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7E94D-B243-4520-89B5-CB2506AED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8B336-4570-4330-BE99-BF258E156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3A92F0-FFEE-4A1C-BA61-2DA16B256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CFC6FF-CFA5-4D58-8C10-D15B6FC8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F2F0-5221-4695-A1D9-70D12675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851DF-975C-4F2B-A8BB-1EA018C6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2F4A7-1834-4902-B122-95F79660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BC1F0-8927-4C93-83A3-5FB68EDD6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5547B5-AC64-429B-AA99-025DEBED1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26598-DE53-4902-9BEF-968B2092A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A14C5F-1526-4C5C-ACF8-CEA491060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B8C87F-3ED7-4008-A1A3-98D1DBACE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39F2F2-6D37-4D0F-AFCA-190C40410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B64FC6-AFEF-44B7-A303-A23E7F396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870D2E-A536-4C04-AA31-1FE403EBB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2892-5762-4C78-8851-5C9F2622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211EB6-B587-411F-B1B9-9A9365A24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A42273-323D-4CE4-8370-9E1AC5F5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263739-E31A-4594-AEC7-26789E21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142006-A326-439E-951F-560D4AED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9EFDF9-2212-486B-B61C-A4E4E4BC0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316A90-3735-4D70-BCAE-0863E43DD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6303EE-2DDF-4AA9-9DF8-09FECA268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F2D40-AA34-4FE6-A9F8-D90A28D33575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C1FA3-2AE5-48AB-9C5B-16E0E9336D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AEC87-7DBC-410F-84B9-14BB5ADF7142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8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2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9420C-26A8-4037-A9B7-21B4420ED1D7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35602-B77C-49FC-A1C0-68E13F62F9AC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DF8FE-F152-46C5-ADB9-A375BF237AB2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1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8A0FB-98D8-46B6-BEBF-5728316081A9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6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9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0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3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4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56" name="Group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57" name="Straight Connector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58" name="Straight Connector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59" name="Straight Connector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60" name="Group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61" name="Straight Connector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62" name="Straight Connector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63" name="Straight Connector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64" name="Group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65" name="Straight Connector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66" name="Straight Connector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67" name="Straight Connector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2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3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4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8435-708D-413D-978D-EDDE192ED82E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622440" y="4200480"/>
            <a:ext cx="807084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3" descr="broken window.jpg"/>
          <p:cNvPicPr/>
          <p:nvPr/>
        </p:nvPicPr>
        <p:blipFill>
          <a:blip r:embed="rId1"/>
          <a:stretch/>
        </p:blipFill>
        <p:spPr>
          <a:xfrm>
            <a:off x="0" y="0"/>
            <a:ext cx="9205920" cy="68580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3581640" cy="353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I have broken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the window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that was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on your ho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" descr="cat in window.jpg"/>
          <p:cNvPicPr/>
          <p:nvPr/>
        </p:nvPicPr>
        <p:blipFill>
          <a:blip r:embed="rId1"/>
          <a:stretch/>
        </p:blipFill>
        <p:spPr>
          <a:xfrm>
            <a:off x="4267080" y="-14400"/>
            <a:ext cx="4876920" cy="687240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229600" cy="620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And which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you were probably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going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to look out of today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2" descr="basebal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800600" cy="475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Forgive me…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it was fun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eeing the baseball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break the glass</a:t>
            </a:r>
            <a:br>
              <a:rPr sz="3200"/>
            </a:br>
            <a:r>
              <a:rPr b="0" lang="en-US" sz="2000" spc="-1" strike="noStrike">
                <a:solidFill>
                  <a:srgbClr val="ffff00"/>
                </a:solidFill>
                <a:latin typeface="Calibri"/>
              </a:rPr>
              <a:t>Miller, Dhruv, and T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s Ci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oken window. dotintime. Im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kyard baseball= broken window. Mcruff. Im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uby looking out of the window. loW Sparky.  Im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, i b. "Flickr: Search."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Welcome to Flickr - Photo Shar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17 Apr. 2009 &lt;http://www.flickr.com/search/?q=broken+window&gt;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3:13:49Z</dcterms:created>
  <dc:creator>Fac - Montgomery,Bruce</dc:creator>
  <dc:description/>
  <dc:language>en-US</dc:language>
  <cp:lastModifiedBy>cyndi.vander_ven</cp:lastModifiedBy>
  <dcterms:modified xsi:type="dcterms:W3CDTF">2009-04-27T01:13:32Z</dcterms:modified>
  <cp:revision>12</cp:revision>
  <dc:subject/>
  <dc:title>The Broken Window</dc:title>
</cp:coreProperties>
</file>